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F24-AD76-4E78-8CDC-6A396816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98E-B876-47FE-952C-D71251A4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A3B-096A-414F-93FB-21068D07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887-7CA4-4724-91E9-2AD27542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7C0B-754E-432F-83FB-437F5965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2D9F-A21D-46F9-B281-7E5A55CD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C820-7FD4-4B15-B25C-57E3E177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2694-6F3E-4BEA-9397-D995E607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8131-0DF3-459F-BDB3-A7B9F208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31F8-EA04-46DB-BC25-E0A73BC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EB43-DD01-4B87-9F45-131A94F9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907-D0E0-40F9-B0FD-436B3026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0CF1-731F-4E2F-ABAA-BB17C18D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DA7A-E8CE-41BB-93B1-9C20D70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9346-C552-40D9-BA37-8DA36484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93FF-C3DC-4679-BD1C-852D9096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641E-D869-4CFB-947E-BCA78999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E2C-88FA-48DF-A921-C14122F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61A-5F40-4251-B419-7D4A66F1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B3D-39BB-4633-97A9-06DFA753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12F-6B37-4256-8C74-42A30EAA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275-6458-4491-9EC6-5C3EE08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4CA-38D6-4123-ADA0-59A7A623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D93-D13A-4BAC-8645-53BDD4E8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CDD1-DA0F-4F7B-8F15-7A8353DC88D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6A18-D815-4E10-BC94-0FE3B5F3FCB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omic Sans MS"/>
                <a:ea typeface="黑体"/>
              </a:rPr>
              <a:t>美妙的琴声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阿姨会拉琴，琴声真好听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759120" y="-282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885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93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1280" y="404640"/>
            <a:ext cx="90727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2:58:32Z</dcterms:created>
  <dc:creator>微软用户</dc:creator>
  <dc:description/>
  <dc:language>en-US</dc:language>
  <cp:lastModifiedBy>微软用户</cp:lastModifiedBy>
  <dcterms:modified xsi:type="dcterms:W3CDTF">2013-10-14T13:29:25Z</dcterms:modified>
  <cp:revision>3</cp:revision>
  <dc:subject/>
  <dc:title>美妙的琴声</dc:title>
</cp:coreProperties>
</file>